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1d062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88A-B93A-4FB4-8705-7B4F4432DB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venant : ALCI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CUMEN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C36D-D764-4116-80E4-54D4992360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venant : ALCI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CUMENT DE TRAV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955-6D06-4308-8909-7D4681C3AE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1100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11440" y="94284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1092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1100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11440" y="3776400"/>
            <a:ext cx="266652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7640" y="145800"/>
            <a:ext cx="7559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600" y="377640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600" y="942840"/>
            <a:ext cx="404136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3776400"/>
            <a:ext cx="828180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876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587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15920" indent="-13788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6280" indent="-1792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7672320" y="6670800"/>
            <a:ext cx="1478160" cy="22536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-82440"/>
            <a:ext cx="7667640" cy="2268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60800" y="6460920"/>
            <a:ext cx="1482840" cy="214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AFF-1459-4128-A7E3-D24D43CE8EAB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ARSIF - Logo GIF"/>
          <p:cNvPicPr/>
          <p:nvPr/>
        </p:nvPicPr>
        <p:blipFill>
          <a:blip r:embed="rId2"/>
          <a:stretch/>
        </p:blipFill>
        <p:spPr>
          <a:xfrm>
            <a:off x="426960" y="1096920"/>
            <a:ext cx="2129040" cy="14702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1"/>
          <p:cNvGrpSpPr/>
          <p:nvPr/>
        </p:nvGrpSpPr>
        <p:grpSpPr>
          <a:xfrm>
            <a:off x="8459640" y="6364440"/>
            <a:ext cx="485640" cy="291600"/>
            <a:chOff x="8459640" y="6364440"/>
            <a:chExt cx="485640" cy="291600"/>
          </a:xfrm>
        </p:grpSpPr>
        <p:sp>
          <p:nvSpPr>
            <p:cNvPr id="44" name="Oval 12"/>
            <p:cNvSpPr/>
            <p:nvPr/>
          </p:nvSpPr>
          <p:spPr>
            <a:xfrm>
              <a:off x="8459640" y="6364440"/>
              <a:ext cx="244080" cy="291600"/>
            </a:xfrm>
            <a:prstGeom prst="ellipse">
              <a:avLst/>
            </a:prstGeom>
            <a:solidFill>
              <a:srgbClr val="034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/>
            <p:cNvSpPr/>
            <p:nvPr/>
          </p:nvSpPr>
          <p:spPr>
            <a:xfrm flipH="1">
              <a:off x="8809200" y="6364440"/>
              <a:ext cx="136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330" y="2343"/>
                    <a:pt x="13060" y="5080"/>
                    <a:pt x="13060" y="10800"/>
                  </a:cubicBezTo>
                  <a:cubicBezTo>
                    <a:pt x="13060" y="16520"/>
                    <a:pt x="17330" y="1925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dc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15"/>
          <p:cNvGrpSpPr/>
          <p:nvPr/>
        </p:nvGrpSpPr>
        <p:grpSpPr>
          <a:xfrm>
            <a:off x="0" y="3168720"/>
            <a:ext cx="252360" cy="2115720"/>
            <a:chOff x="0" y="3168720"/>
            <a:chExt cx="252360" cy="2115720"/>
          </a:xfrm>
        </p:grpSpPr>
        <p:sp>
          <p:nvSpPr>
            <p:cNvPr id="47" name="Line 16"/>
            <p:cNvSpPr/>
            <p:nvPr/>
          </p:nvSpPr>
          <p:spPr>
            <a:xfrm>
              <a:off x="0" y="316872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7"/>
            <p:cNvSpPr/>
            <p:nvPr/>
          </p:nvSpPr>
          <p:spPr>
            <a:xfrm>
              <a:off x="0" y="381492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0" y="3970080"/>
              <a:ext cx="252360" cy="0"/>
            </a:xfrm>
            <a:prstGeom prst="line">
              <a:avLst/>
            </a:prstGeom>
            <a:ln w="28440">
              <a:solidFill>
                <a:srgbClr val="8dc6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9"/>
            <p:cNvSpPr/>
            <p:nvPr/>
          </p:nvSpPr>
          <p:spPr>
            <a:xfrm>
              <a:off x="0" y="4236840"/>
              <a:ext cx="252360" cy="0"/>
            </a:xfrm>
            <a:prstGeom prst="line">
              <a:avLst/>
            </a:prstGeom>
            <a:ln w="28440">
              <a:solidFill>
                <a:srgbClr val="8dc6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0"/>
            <p:cNvSpPr/>
            <p:nvPr/>
          </p:nvSpPr>
          <p:spPr>
            <a:xfrm>
              <a:off x="0" y="438516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0" y="46436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2"/>
            <p:cNvSpPr/>
            <p:nvPr/>
          </p:nvSpPr>
          <p:spPr>
            <a:xfrm>
              <a:off x="0" y="479556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3"/>
            <p:cNvSpPr/>
            <p:nvPr/>
          </p:nvSpPr>
          <p:spPr>
            <a:xfrm>
              <a:off x="0" y="50450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0" y="5284440"/>
              <a:ext cx="252360" cy="0"/>
            </a:xfrm>
            <a:prstGeom prst="line">
              <a:avLst/>
            </a:prstGeom>
            <a:ln w="28440">
              <a:solidFill>
                <a:srgbClr val="034e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7" descr="LOGO_ARS_IDF_territoire graphique_2"/>
          <p:cNvPicPr/>
          <p:nvPr/>
        </p:nvPicPr>
        <p:blipFill>
          <a:blip r:embed="rId3"/>
          <a:srcRect l="0" t="0" r="0" b="88441"/>
          <a:stretch/>
        </p:blipFill>
        <p:spPr>
          <a:xfrm>
            <a:off x="0" y="471600"/>
            <a:ext cx="9142560" cy="185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876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587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15920" indent="-13788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6280" indent="-1792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7672320" y="6670800"/>
            <a:ext cx="1478160" cy="22536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-82440"/>
            <a:ext cx="7667640" cy="2268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RSIF - Logo GIF"/>
          <p:cNvPicPr/>
          <p:nvPr/>
        </p:nvPicPr>
        <p:blipFill>
          <a:blip r:embed="rId2"/>
          <a:stretch/>
        </p:blipFill>
        <p:spPr>
          <a:xfrm>
            <a:off x="7915320" y="230040"/>
            <a:ext cx="985680" cy="6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1d062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0920" y="942840"/>
            <a:ext cx="82818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876"/>
              </a:spcBef>
              <a:buClr>
                <a:srgbClr val="a1d06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15876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15920" indent="-137880">
              <a:spcBef>
                <a:spcPts val="87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6280" indent="-179280">
              <a:spcBef>
                <a:spcPts val="876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6280" indent="-179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7667280" y="6432480"/>
            <a:ext cx="1482840" cy="216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287-6909-43AE-8005-6F0FBE59D2CC}" type="slidenum"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e 9"/>
          <p:cNvGrpSpPr/>
          <p:nvPr/>
        </p:nvGrpSpPr>
        <p:grpSpPr>
          <a:xfrm>
            <a:off x="19080" y="907920"/>
            <a:ext cx="4686120" cy="5761080"/>
            <a:chOff x="19080" y="907920"/>
            <a:chExt cx="4686120" cy="5761080"/>
          </a:xfrm>
        </p:grpSpPr>
        <p:sp>
          <p:nvSpPr>
            <p:cNvPr id="145" name="Rectangle à coins arrondis 10"/>
            <p:cNvSpPr/>
            <p:nvPr/>
          </p:nvSpPr>
          <p:spPr>
            <a:xfrm>
              <a:off x="104400" y="907920"/>
              <a:ext cx="4600800" cy="5761080"/>
            </a:xfrm>
            <a:custGeom>
              <a:avLst/>
              <a:gdLst>
                <a:gd name="textAreaLeft" fmla="*/ 134640 w 4600800"/>
                <a:gd name="textAreaRight" fmla="*/ 4466160 w 4600800"/>
                <a:gd name="textAreaTop" fmla="*/ 134640 h 5761080"/>
                <a:gd name="textAreaBottom" fmla="*/ 5626440 h 5761080"/>
              </a:gdLst>
              <a:ahLst/>
              <a:rect l="textAreaLeft" t="textAreaTop" r="textAreaRight" b="textAreaBottom"/>
              <a:pathLst>
                <a:path w="21600" h="27047">
                  <a:moveTo>
                    <a:pt x="2160" y="0"/>
                  </a:moveTo>
                  <a:arcTo wR="2160" hR="2160" stAng="16200000" swAng="-5400000"/>
                  <a:lnTo>
                    <a:pt x="0" y="24887"/>
                  </a:lnTo>
                  <a:arcTo wR="2160" hR="2160" stAng="10800000" swAng="-5400000"/>
                  <a:lnTo>
                    <a:pt x="19440" y="2704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19080" y="2544480"/>
              <a:ext cx="162756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Check list des facteurs de risque individuels favorisa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Terr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1d062"/>
                </a:solidFill>
                <a:latin typeface="Arial"/>
              </a:rPr>
              <a:t>Check-lists d’évaluation (1/2)</a:t>
            </a:r>
            <a:endParaRPr b="1" lang="en-US" sz="2000" spc="-1" strike="noStrike">
              <a:solidFill>
                <a:srgbClr val="a1d062"/>
              </a:solidFill>
              <a:latin typeface="Arial"/>
            </a:endParaRPr>
          </a:p>
        </p:txBody>
      </p:sp>
      <p:sp>
        <p:nvSpPr>
          <p:cNvPr id="148" name="Espace réservé du pied de page 4"/>
          <p:cNvSpPr/>
          <p:nvPr/>
        </p:nvSpPr>
        <p:spPr>
          <a:xfrm>
            <a:off x="7667640" y="6675480"/>
            <a:ext cx="148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84E-23EC-49C9-9172-A1967FA75806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6297480" y="3467160"/>
            <a:ext cx="2032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Risque élev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ions</a:t>
            </a:r>
            <a:r>
              <a:rPr b="0" i="1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Correction des facteurs de risque intrinsèques, extrinsèques, comportementaux et environnementaux 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Mesures barrières d’atténuation des conséquences graves 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Prise en charg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individualisé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à coins arrondis 3" descr=""/>
          <p:cNvPicPr/>
          <p:nvPr/>
        </p:nvPicPr>
        <p:blipFill>
          <a:blip r:embed="rId1"/>
          <a:stretch/>
        </p:blipFill>
        <p:spPr>
          <a:xfrm>
            <a:off x="1547640" y="974880"/>
            <a:ext cx="3121200" cy="58226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e 40"/>
          <p:cNvGrpSpPr/>
          <p:nvPr/>
        </p:nvGrpSpPr>
        <p:grpSpPr>
          <a:xfrm>
            <a:off x="4826160" y="907920"/>
            <a:ext cx="4179600" cy="5761080"/>
            <a:chOff x="4826160" y="907920"/>
            <a:chExt cx="4179600" cy="5761080"/>
          </a:xfrm>
        </p:grpSpPr>
        <p:sp>
          <p:nvSpPr>
            <p:cNvPr id="152" name="Rectangle à coins arrondis 44"/>
            <p:cNvSpPr/>
            <p:nvPr/>
          </p:nvSpPr>
          <p:spPr>
            <a:xfrm>
              <a:off x="4905000" y="907920"/>
              <a:ext cx="4100760" cy="5761080"/>
            </a:xfrm>
            <a:custGeom>
              <a:avLst/>
              <a:gdLst>
                <a:gd name="textAreaLeft" fmla="*/ 119880 w 4100760"/>
                <a:gd name="textAreaRight" fmla="*/ 3980880 w 4100760"/>
                <a:gd name="textAreaTop" fmla="*/ 119880 h 5761080"/>
                <a:gd name="textAreaBottom" fmla="*/ 5641200 h 5761080"/>
              </a:gdLst>
              <a:ahLst/>
              <a:rect l="textAreaLeft" t="textAreaTop" r="textAreaRight" b="textAreaBottom"/>
              <a:pathLst>
                <a:path w="21600" h="30345">
                  <a:moveTo>
                    <a:pt x="2160" y="0"/>
                  </a:moveTo>
                  <a:arcTo wR="2160" hR="2160" stAng="16200000" swAng="-5400000"/>
                  <a:lnTo>
                    <a:pt x="0" y="28185"/>
                  </a:lnTo>
                  <a:arcTo wR="2160" hR="2160" stAng="10800000" swAng="-5400000"/>
                  <a:lnTo>
                    <a:pt x="19440" y="30345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826160" y="1190160"/>
              <a:ext cx="1978920" cy="23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Check list des facteurs de risque  individuels comportementau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à coins arrondis 49"/>
          <p:cNvSpPr/>
          <p:nvPr/>
        </p:nvSpPr>
        <p:spPr>
          <a:xfrm>
            <a:off x="6804000" y="1305720"/>
            <a:ext cx="2071800" cy="2068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Alc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Sédentarit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Prise de risq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(ex. automédication, ménage en hauteur, mise en danger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Déambulation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4836960" y="3859200"/>
            <a:ext cx="196704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130680" bIns="13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heck list des facteurs de risque environnementau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à coins arrondis 53"/>
          <p:cNvSpPr/>
          <p:nvPr/>
        </p:nvSpPr>
        <p:spPr>
          <a:xfrm>
            <a:off x="6804000" y="4221000"/>
            <a:ext cx="2071800" cy="1629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Aide technique inadapté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Chaussage et habillage inadapté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Habitat mal adapt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Conten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e 9"/>
          <p:cNvGrpSpPr/>
          <p:nvPr/>
        </p:nvGrpSpPr>
        <p:grpSpPr>
          <a:xfrm>
            <a:off x="4299120" y="1052640"/>
            <a:ext cx="4671720" cy="2898720"/>
            <a:chOff x="4299120" y="1052640"/>
            <a:chExt cx="4671720" cy="2898720"/>
          </a:xfrm>
        </p:grpSpPr>
        <p:sp>
          <p:nvSpPr>
            <p:cNvPr id="158" name="Rectangle à coins arrondis 10"/>
            <p:cNvSpPr/>
            <p:nvPr/>
          </p:nvSpPr>
          <p:spPr>
            <a:xfrm>
              <a:off x="4299120" y="1052640"/>
              <a:ext cx="4671720" cy="2898720"/>
            </a:xfrm>
            <a:prstGeom prst="roundRect">
              <a:avLst>
                <a:gd name="adj" fmla="val 10000"/>
              </a:avLst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4314960" y="1556640"/>
              <a:ext cx="1539000" cy="13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Check list des facteurs de risque de bless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Espace réservé du pied de page 4"/>
          <p:cNvSpPr/>
          <p:nvPr/>
        </p:nvSpPr>
        <p:spPr>
          <a:xfrm>
            <a:off x="7667640" y="6675480"/>
            <a:ext cx="148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350-8935-434E-8A8B-A78CA3085534}" type="slidenum">
              <a:rPr b="0" lang="fr-F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à coins arrondis 3"/>
          <p:cNvSpPr/>
          <p:nvPr/>
        </p:nvSpPr>
        <p:spPr>
          <a:xfrm>
            <a:off x="5776920" y="1300320"/>
            <a:ext cx="3024360" cy="2269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Augmentation de la fréquence des ch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Ostéoporose et fragilité osseu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Prise d’anticoagula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ncapacité de se relever se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solement social et famil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Antécédents de frac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e 12"/>
          <p:cNvGrpSpPr/>
          <p:nvPr/>
        </p:nvGrpSpPr>
        <p:grpSpPr>
          <a:xfrm>
            <a:off x="4299120" y="4149720"/>
            <a:ext cx="4671720" cy="2087640"/>
            <a:chOff x="4299120" y="4149720"/>
            <a:chExt cx="4671720" cy="2087640"/>
          </a:xfrm>
        </p:grpSpPr>
        <p:sp>
          <p:nvSpPr>
            <p:cNvPr id="163" name="Rectangle à coins arrondis 13"/>
            <p:cNvSpPr/>
            <p:nvPr/>
          </p:nvSpPr>
          <p:spPr>
            <a:xfrm>
              <a:off x="4299120" y="4149720"/>
              <a:ext cx="4671720" cy="2087640"/>
            </a:xfrm>
            <a:prstGeom prst="roundRect">
              <a:avLst>
                <a:gd name="adj" fmla="val 10000"/>
              </a:avLst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4299120" y="4512960"/>
              <a:ext cx="1477800" cy="13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Check list des indications de réévalu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à coins arrondis 15"/>
          <p:cNvSpPr/>
          <p:nvPr/>
        </p:nvSpPr>
        <p:spPr>
          <a:xfrm>
            <a:off x="5796000" y="4292640"/>
            <a:ext cx="3024000" cy="174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Réévaluation annuelle systématiq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En retour d’hospitalis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Si changement d’état cliniq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En cas de chu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En post-chirurg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e 16"/>
          <p:cNvGrpSpPr/>
          <p:nvPr/>
        </p:nvGrpSpPr>
        <p:grpSpPr>
          <a:xfrm>
            <a:off x="231840" y="1052640"/>
            <a:ext cx="3979800" cy="5184720"/>
            <a:chOff x="231840" y="1052640"/>
            <a:chExt cx="3979800" cy="5184720"/>
          </a:xfrm>
        </p:grpSpPr>
        <p:sp>
          <p:nvSpPr>
            <p:cNvPr id="167" name="Rectangle à coins arrondis 17"/>
            <p:cNvSpPr/>
            <p:nvPr/>
          </p:nvSpPr>
          <p:spPr>
            <a:xfrm>
              <a:off x="302040" y="1052640"/>
              <a:ext cx="3909600" cy="5184720"/>
            </a:xfrm>
            <a:custGeom>
              <a:avLst/>
              <a:gdLst>
                <a:gd name="textAreaLeft" fmla="*/ 114480 w 3909600"/>
                <a:gd name="textAreaRight" fmla="*/ 3795120 w 3909600"/>
                <a:gd name="textAreaTop" fmla="*/ 114480 h 5184720"/>
                <a:gd name="textAreaBottom" fmla="*/ 5070240 h 5184720"/>
              </a:gdLst>
              <a:ahLst/>
              <a:rect l="textAreaLeft" t="textAreaTop" r="textAreaRight" b="textAreaBottom"/>
              <a:pathLst>
                <a:path w="21600" h="28644">
                  <a:moveTo>
                    <a:pt x="2160" y="0"/>
                  </a:moveTo>
                  <a:arcTo wR="2160" hR="2160" stAng="16200000" swAng="-5400000"/>
                  <a:lnTo>
                    <a:pt x="0" y="26484"/>
                  </a:lnTo>
                  <a:arcTo wR="2160" hR="2160" stAng="10800000" swAng="-5400000"/>
                  <a:lnTo>
                    <a:pt x="19440" y="2864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231840" y="2564640"/>
              <a:ext cx="1481400" cy="23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Check list des facteurs de risque  individue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précipita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500" spc="-1" strike="noStrike">
                  <a:solidFill>
                    <a:srgbClr val="000000"/>
                  </a:solidFill>
                  <a:latin typeface="Arial"/>
                </a:rPr>
                <a:t>(Pathologies aigu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à coins arrondis 19"/>
          <p:cNvSpPr/>
          <p:nvPr/>
        </p:nvSpPr>
        <p:spPr>
          <a:xfrm>
            <a:off x="1639800" y="1300320"/>
            <a:ext cx="2305080" cy="440496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4404960"/>
              <a:gd name="textAreaBottom" fmla="*/ 4292640 h 4404960"/>
            </a:gdLst>
            <a:ahLst/>
            <a:rect l="textAreaLeft" t="textAreaTop" r="textAreaRight" b="textAreaBottom"/>
            <a:pathLst>
              <a:path w="21600" h="41274">
                <a:moveTo>
                  <a:pt x="3600" y="0"/>
                </a:moveTo>
                <a:arcTo wR="3600" hR="3600" stAng="16200000" swAng="-5400000"/>
                <a:lnTo>
                  <a:pt x="0" y="37674"/>
                </a:lnTo>
                <a:arcTo wR="3600" hR="3600" stAng="10800000" swAng="-5400000"/>
                <a:lnTo>
                  <a:pt x="18000" y="412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Cardiovasculaire</a:t>
            </a: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 (hypotension orthostatique, trouble du rythme…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Neurologique</a:t>
            </a: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 (AVC</a:t>
            </a:r>
            <a:r>
              <a:rPr b="0" i="1" lang="fr-FR" sz="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ORL </a:t>
            </a: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(Vertig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Métabolique</a:t>
            </a:r>
            <a:r>
              <a:rPr b="0" lang="fr-FR" sz="1300" spc="-1" strike="noStrike">
                <a:solidFill>
                  <a:srgbClr val="ffffff"/>
                </a:solidFill>
                <a:latin typeface="Arial"/>
              </a:rPr>
              <a:t> (hypoglycémie, hyponatrémie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Syndrome confusionn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ntroduction de psychotrope / antihypertense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Pathologie infectieu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Déshydra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640" y="145800"/>
            <a:ext cx="7559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1d062"/>
                </a:solidFill>
                <a:latin typeface="Arial"/>
              </a:rPr>
              <a:t>Check-lists d’évaluation (2/2)</a:t>
            </a:r>
            <a:endParaRPr b="1" lang="en-US" sz="2400" spc="-1" strike="noStrike">
              <a:solidFill>
                <a:srgbClr val="a1d06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21:58:52Z</dcterms:created>
  <dc:creator>Marie-Sophie FERREIRA</dc:creator>
  <dc:description/>
  <dc:language>en-US</dc:language>
  <cp:lastModifiedBy>ROCHE, Marie-Hélène</cp:lastModifiedBy>
  <dcterms:modified xsi:type="dcterms:W3CDTF">2016-05-04T06:36:32Z</dcterms:modified>
  <cp:revision>2</cp:revision>
  <dc:subject/>
  <dc:title>Check-lists d’évaluation (1/2)</dc:title>
</cp:coreProperties>
</file>