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6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1d062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7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8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696-A7E6-4E49-A099-0616389871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venant : S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e l'en-tête 3"/>
          <p:cNvSpPr/>
          <p:nvPr/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CUMEN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4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AEB8-9353-4668-AC63-AAD52DA939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venant : S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e l'en-tête 3"/>
          <p:cNvSpPr/>
          <p:nvPr/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CUMEN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4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F63C-75CC-43C2-80D8-A6A49EE93D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938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857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6668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065240" indent="-1443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42880" indent="-18864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672320" y="6667560"/>
            <a:ext cx="1478160" cy="23004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-84240"/>
            <a:ext cx="7667640" cy="2304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60800" y="6460920"/>
            <a:ext cx="1482840" cy="2142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B7CC-93A7-4D8E-AC59-9FAFCE545539}" type="slidenum"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ARSIF - Logo GIF"/>
          <p:cNvPicPr/>
          <p:nvPr/>
        </p:nvPicPr>
        <p:blipFill>
          <a:blip r:embed="rId2"/>
          <a:stretch/>
        </p:blipFill>
        <p:spPr>
          <a:xfrm>
            <a:off x="7915320" y="230040"/>
            <a:ext cx="985680" cy="68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938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857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6668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065240" indent="-1443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42880" indent="-18864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672320" y="6667560"/>
            <a:ext cx="1478160" cy="23004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-84240"/>
            <a:ext cx="7667640" cy="2304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7660800" y="6460920"/>
            <a:ext cx="1482840" cy="2142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B336-653C-4736-951C-02F594B45821}" type="slidenum"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ARSIF - Logo GIF"/>
          <p:cNvPicPr/>
          <p:nvPr/>
        </p:nvPicPr>
        <p:blipFill>
          <a:blip r:embed="rId2"/>
          <a:stretch/>
        </p:blipFill>
        <p:spPr>
          <a:xfrm>
            <a:off x="7915320" y="230040"/>
            <a:ext cx="985680" cy="68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7672320" y="6667560"/>
            <a:ext cx="1478160" cy="23004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-84240"/>
            <a:ext cx="7667640" cy="2304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ARSIF - Logo GIF"/>
          <p:cNvPicPr/>
          <p:nvPr/>
        </p:nvPicPr>
        <p:blipFill>
          <a:blip r:embed="rId2"/>
          <a:stretch/>
        </p:blipFill>
        <p:spPr>
          <a:xfrm>
            <a:off x="7915320" y="230040"/>
            <a:ext cx="98568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938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857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6668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065240" indent="-1443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42880" indent="-18864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3"/>
          </p:nvPr>
        </p:nvSpPr>
        <p:spPr>
          <a:xfrm>
            <a:off x="7667280" y="6432480"/>
            <a:ext cx="1482840" cy="216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9FA-66CB-460E-A4AF-F7B953A5305C}" type="slidenum"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ARSIF - Logo GIF"/>
          <p:cNvPicPr/>
          <p:nvPr/>
        </p:nvPicPr>
        <p:blipFill>
          <a:blip r:embed="rId2"/>
          <a:stretch/>
        </p:blipFill>
        <p:spPr>
          <a:xfrm>
            <a:off x="426960" y="1096920"/>
            <a:ext cx="2129040" cy="147024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8459640" y="6364440"/>
            <a:ext cx="485640" cy="291600"/>
            <a:chOff x="8459640" y="6364440"/>
            <a:chExt cx="485640" cy="291600"/>
          </a:xfrm>
        </p:grpSpPr>
        <p:sp>
          <p:nvSpPr>
            <p:cNvPr id="128" name="Oval 12"/>
            <p:cNvSpPr/>
            <p:nvPr/>
          </p:nvSpPr>
          <p:spPr>
            <a:xfrm>
              <a:off x="8459640" y="6364440"/>
              <a:ext cx="244080" cy="291600"/>
            </a:xfrm>
            <a:prstGeom prst="ellipse">
              <a:avLst/>
            </a:prstGeom>
            <a:solidFill>
              <a:srgbClr val="034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3"/>
            <p:cNvSpPr/>
            <p:nvPr/>
          </p:nvSpPr>
          <p:spPr>
            <a:xfrm flipH="1">
              <a:off x="8809200" y="6364440"/>
              <a:ext cx="136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330" y="2343"/>
                    <a:pt x="13060" y="5080"/>
                    <a:pt x="13060" y="10800"/>
                  </a:cubicBezTo>
                  <a:cubicBezTo>
                    <a:pt x="13060" y="16520"/>
                    <a:pt x="17330" y="1925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dc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0" y="3168720"/>
            <a:ext cx="252360" cy="2115720"/>
            <a:chOff x="0" y="3168720"/>
            <a:chExt cx="252360" cy="2115720"/>
          </a:xfrm>
        </p:grpSpPr>
        <p:sp>
          <p:nvSpPr>
            <p:cNvPr id="131" name="Line 16"/>
            <p:cNvSpPr/>
            <p:nvPr/>
          </p:nvSpPr>
          <p:spPr>
            <a:xfrm>
              <a:off x="0" y="316872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>
              <a:off x="0" y="381492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>
              <a:off x="0" y="3970080"/>
              <a:ext cx="252360" cy="0"/>
            </a:xfrm>
            <a:prstGeom prst="line">
              <a:avLst/>
            </a:prstGeom>
            <a:ln w="28440">
              <a:solidFill>
                <a:srgbClr val="8dc6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>
              <a:off x="0" y="4236840"/>
              <a:ext cx="252360" cy="0"/>
            </a:xfrm>
            <a:prstGeom prst="line">
              <a:avLst/>
            </a:prstGeom>
            <a:ln w="28440">
              <a:solidFill>
                <a:srgbClr val="8dc6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0" y="438516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>
              <a:off x="0" y="464364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2"/>
            <p:cNvSpPr/>
            <p:nvPr/>
          </p:nvSpPr>
          <p:spPr>
            <a:xfrm>
              <a:off x="0" y="479556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0" y="504504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>
              <a:off x="0" y="528444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7" descr="LOGO_ARS_IDF_territoire graphique_2"/>
          <p:cNvPicPr/>
          <p:nvPr/>
        </p:nvPicPr>
        <p:blipFill>
          <a:blip r:embed="rId3"/>
          <a:srcRect l="0" t="0" r="0" b="88441"/>
          <a:stretch/>
        </p:blipFill>
        <p:spPr>
          <a:xfrm>
            <a:off x="0" y="471600"/>
            <a:ext cx="9142560" cy="185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938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857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6668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065240" indent="-1443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42880" indent="-18864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7672320" y="6667560"/>
            <a:ext cx="1478160" cy="23004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0" y="-84240"/>
            <a:ext cx="7667640" cy="2304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ARSIF - Logo GIF"/>
          <p:cNvPicPr/>
          <p:nvPr/>
        </p:nvPicPr>
        <p:blipFill>
          <a:blip r:embed="rId2"/>
          <a:stretch/>
        </p:blipFill>
        <p:spPr>
          <a:xfrm>
            <a:off x="7915320" y="230040"/>
            <a:ext cx="985680" cy="681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938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857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6668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065240" indent="-1443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42880" indent="-18864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4"/>
          </p:nvPr>
        </p:nvSpPr>
        <p:spPr>
          <a:xfrm>
            <a:off x="7667280" y="6432480"/>
            <a:ext cx="1482840" cy="216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260-6D80-4C06-9606-5AE7ABD9E7B4}" type="slidenum"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7672320" y="6667560"/>
            <a:ext cx="1478160" cy="23004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0" y="-84240"/>
            <a:ext cx="7667640" cy="2304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ARSIF - Logo GIF"/>
          <p:cNvPicPr/>
          <p:nvPr/>
        </p:nvPicPr>
        <p:blipFill>
          <a:blip r:embed="rId2"/>
          <a:stretch/>
        </p:blipFill>
        <p:spPr>
          <a:xfrm>
            <a:off x="7915320" y="230040"/>
            <a:ext cx="985680" cy="681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938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-1857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6668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065240" indent="-144360">
              <a:spcBef>
                <a:spcPts val="938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42880" indent="-188640">
              <a:spcBef>
                <a:spcPts val="938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42880" indent="-188640"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5"/>
          </p:nvPr>
        </p:nvSpPr>
        <p:spPr>
          <a:xfrm>
            <a:off x="7660800" y="6460920"/>
            <a:ext cx="1482840" cy="2142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C69F-886D-4DD2-90E2-E1327BD0BF6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7575480" cy="758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a1d062"/>
                </a:solidFill>
                <a:latin typeface="Arial"/>
              </a:rPr>
              <a:t>La modélisation , simplifier pour agir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3640" y="758520"/>
            <a:ext cx="8569080" cy="5910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964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ux étapes d’évaluation 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457200">
              <a:spcBef>
                <a:spcPts val="964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dépistage du risque de chute pour tous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644400" indent="-457200">
              <a:spcBef>
                <a:spcPts val="964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Identification du risque de chute grave </a:t>
            </a:r>
            <a:r>
              <a:rPr b="0" lang="fr-FR" sz="1800" spc="-1" strike="noStrike">
                <a:solidFill>
                  <a:srgbClr val="f05a78"/>
                </a:solidFill>
                <a:latin typeface="Arial"/>
              </a:rPr>
              <a:t>(check - listes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964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ux étapes d’actions (interventions) 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457200">
              <a:spcBef>
                <a:spcPts val="964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pour tous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05a78"/>
                </a:solidFill>
                <a:latin typeface="Arial"/>
              </a:rPr>
              <a:t>(check - listes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644400" indent="-457200">
              <a:spcBef>
                <a:spcPts val="964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pour ceux à risque de chute gra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964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multidisciplinarité à toutes les étapes, dès le dépistag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71520"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. IDE, AS, Ergo, Kiné, Psychomot, diététicien, psychologue,  médecin…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71520"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cus sur le rôle du médecin :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644400" indent="-457200">
              <a:spcBef>
                <a:spcPts val="96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Médicalisation de l’évaluation (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pathologies, et médicaments à risque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644400" indent="-457200">
              <a:spcBef>
                <a:spcPts val="96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Médicalisation de l’action sur 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71520">
              <a:spcBef>
                <a:spcPts val="964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Les prescriptions (revue de leur pertinence, vitamine D, rééducation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371520">
              <a:spcBef>
                <a:spcPts val="964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L’information, la sensibilisation et l’éducation du patient/résident/entourage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371520">
              <a:spcBef>
                <a:spcPts val="964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La prise en charge des pathologies aigues et chroniqu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371520" indent="0"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2" name="Espace réservé du pied de page 4"/>
          <p:cNvSpPr/>
          <p:nvPr/>
        </p:nvSpPr>
        <p:spPr>
          <a:xfrm>
            <a:off x="7667640" y="6675480"/>
            <a:ext cx="148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3EE6-0B58-4409-82C5-2315AA021ECD}" type="slidenum">
              <a:rPr b="0" lang="fr-F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Connecteur droit 40"/>
          <p:cNvSpPr/>
          <p:nvPr/>
        </p:nvSpPr>
        <p:spPr>
          <a:xfrm>
            <a:off x="5799240" y="2781360"/>
            <a:ext cx="0" cy="108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4280" y="974880"/>
            <a:ext cx="8985600" cy="56498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Triangle isocèle 61"/>
          <p:cNvGrpSpPr/>
          <p:nvPr/>
        </p:nvGrpSpPr>
        <p:grpSpPr>
          <a:xfrm>
            <a:off x="158760" y="1554120"/>
            <a:ext cx="1011240" cy="4992480"/>
            <a:chOff x="158760" y="1554120"/>
            <a:chExt cx="1011240" cy="4992480"/>
          </a:xfrm>
        </p:grpSpPr>
        <p:pic>
          <p:nvPicPr>
            <p:cNvPr id="276" name="Triangle isocèle 61" descr=""/>
            <p:cNvPicPr/>
            <p:nvPr/>
          </p:nvPicPr>
          <p:blipFill>
            <a:blip r:embed="rId1"/>
            <a:stretch/>
          </p:blipFill>
          <p:spPr>
            <a:xfrm>
              <a:off x="158760" y="1555200"/>
              <a:ext cx="1011240" cy="49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 rot="10800000">
              <a:off x="410760" y="1554120"/>
              <a:ext cx="506520" cy="24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Espace réservé du pied de page 4"/>
          <p:cNvSpPr/>
          <p:nvPr/>
        </p:nvSpPr>
        <p:spPr>
          <a:xfrm>
            <a:off x="7667640" y="6675480"/>
            <a:ext cx="148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9CBE-A794-4B1E-963B-F1F8A61E1BF0}" type="slidenum">
              <a:rPr b="0" lang="fr-F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43"/>
          <p:cNvSpPr/>
          <p:nvPr/>
        </p:nvSpPr>
        <p:spPr>
          <a:xfrm rot="16200000">
            <a:off x="-339120" y="31996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Niveau de ri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Connecteur droit 59" descr=""/>
          <p:cNvPicPr/>
          <p:nvPr/>
        </p:nvPicPr>
        <p:blipFill>
          <a:blip r:embed="rId2"/>
          <a:stretch/>
        </p:blipFill>
        <p:spPr>
          <a:xfrm>
            <a:off x="5645160" y="4511520"/>
            <a:ext cx="334800" cy="1256040"/>
          </a:xfrm>
          <a:prstGeom prst="rect">
            <a:avLst/>
          </a:prstGeom>
          <a:ln w="0">
            <a:noFill/>
          </a:ln>
        </p:spPr>
      </p:pic>
      <p:sp>
        <p:nvSpPr>
          <p:cNvPr id="281" name="ZoneTexte 58"/>
          <p:cNvSpPr/>
          <p:nvPr/>
        </p:nvSpPr>
        <p:spPr>
          <a:xfrm>
            <a:off x="3081240" y="5002560"/>
            <a:ext cx="5564160" cy="32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3 facteurs de risque et/ou 1 facteur de risque de bl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0"/>
          <p:cNvSpPr/>
          <p:nvPr/>
        </p:nvSpPr>
        <p:spPr>
          <a:xfrm>
            <a:off x="3497400" y="1131840"/>
            <a:ext cx="23270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à coins arrondis 41"/>
          <p:cNvSpPr/>
          <p:nvPr/>
        </p:nvSpPr>
        <p:spPr>
          <a:xfrm>
            <a:off x="1407960" y="3830760"/>
            <a:ext cx="7340760" cy="1031760"/>
          </a:xfrm>
          <a:prstGeom prst="roundRect">
            <a:avLst>
              <a:gd name="adj" fmla="val 10000"/>
            </a:avLst>
          </a:pr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1608120" y="3792600"/>
            <a:ext cx="1668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142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er le ri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Groupe 34" descr=""/>
          <p:cNvPicPr/>
          <p:nvPr/>
        </p:nvPicPr>
        <p:blipFill>
          <a:blip r:embed="rId3"/>
          <a:stretch/>
        </p:blipFill>
        <p:spPr>
          <a:xfrm>
            <a:off x="1170000" y="4091040"/>
            <a:ext cx="476280" cy="511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à coins arrondis 36"/>
          <p:cNvSpPr/>
          <p:nvPr/>
        </p:nvSpPr>
        <p:spPr>
          <a:xfrm>
            <a:off x="3298680" y="3957480"/>
            <a:ext cx="5346720" cy="776520"/>
          </a:xfrm>
          <a:prstGeom prst="roundRect">
            <a:avLst>
              <a:gd name="adj" fmla="val 16667"/>
            </a:avLst>
          </a:prstGeom>
          <a:solidFill>
            <a:srgbClr val="195fa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42120" bIns="42120" anchor="ctr">
            <a:noAutofit/>
          </a:bodyPr>
          <a:p>
            <a:pPr marL="285840" indent="-285840" algn="just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heck-list des facteurs de risque de ch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heck-list des facteurs de risque de bl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52"/>
          <p:cNvSpPr/>
          <p:nvPr/>
        </p:nvSpPr>
        <p:spPr>
          <a:xfrm>
            <a:off x="3657600" y="5780160"/>
            <a:ext cx="4299120" cy="582480"/>
          </a:xfrm>
          <a:prstGeom prst="roundRect">
            <a:avLst>
              <a:gd name="adj" fmla="val 16667"/>
            </a:avLst>
          </a:prstGeom>
          <a:solidFill>
            <a:srgbClr val="195fa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42120" bIns="42120" anchor="ctr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ersonne à risque de chute gr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Connecteur droit 37" descr=""/>
          <p:cNvPicPr/>
          <p:nvPr/>
        </p:nvPicPr>
        <p:blipFill>
          <a:blip r:embed="rId4"/>
          <a:stretch/>
        </p:blipFill>
        <p:spPr>
          <a:xfrm>
            <a:off x="5645160" y="2743200"/>
            <a:ext cx="334800" cy="1285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à coins arrondis 54"/>
          <p:cNvSpPr/>
          <p:nvPr/>
        </p:nvSpPr>
        <p:spPr>
          <a:xfrm>
            <a:off x="1407960" y="1557360"/>
            <a:ext cx="7340760" cy="1440000"/>
          </a:xfrm>
          <a:prstGeom prst="roundRect">
            <a:avLst>
              <a:gd name="adj" fmla="val 10000"/>
            </a:avLst>
          </a:pr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5"/>
          <p:cNvSpPr/>
          <p:nvPr/>
        </p:nvSpPr>
        <p:spPr>
          <a:xfrm>
            <a:off x="1814400" y="1901880"/>
            <a:ext cx="13035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14220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pister le ri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Groupe 57" descr=""/>
          <p:cNvPicPr/>
          <p:nvPr/>
        </p:nvPicPr>
        <p:blipFill>
          <a:blip r:embed="rId5"/>
          <a:stretch/>
        </p:blipFill>
        <p:spPr>
          <a:xfrm>
            <a:off x="1182600" y="2103480"/>
            <a:ext cx="480960" cy="5173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à coins arrondis 64"/>
          <p:cNvSpPr/>
          <p:nvPr/>
        </p:nvSpPr>
        <p:spPr>
          <a:xfrm>
            <a:off x="3081240" y="1633680"/>
            <a:ext cx="5451480" cy="1255680"/>
          </a:xfrm>
          <a:prstGeom prst="roundRect">
            <a:avLst>
              <a:gd name="adj" fmla="val 16667"/>
            </a:avLst>
          </a:prstGeom>
          <a:solidFill>
            <a:srgbClr val="195fa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42120" bIns="42120" anchor="ctr">
            <a:noAutofit/>
          </a:bodyPr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Interrogatoir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: chute dans l’année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Examen cliniqu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5732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acteurs de risque identifi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5732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éalisation d’un test de mobilisation  : le T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Groupe 66" descr=""/>
          <p:cNvPicPr/>
          <p:nvPr/>
        </p:nvPicPr>
        <p:blipFill>
          <a:blip r:embed="rId6"/>
          <a:stretch/>
        </p:blipFill>
        <p:spPr>
          <a:xfrm>
            <a:off x="365040" y="4889520"/>
            <a:ext cx="641520" cy="749160"/>
          </a:xfrm>
          <a:prstGeom prst="rect">
            <a:avLst/>
          </a:prstGeom>
          <a:ln w="0">
            <a:noFill/>
          </a:ln>
        </p:spPr>
      </p:pic>
      <p:pic>
        <p:nvPicPr>
          <p:cNvPr id="294" name="Groupe 69" descr=""/>
          <p:cNvPicPr/>
          <p:nvPr/>
        </p:nvPicPr>
        <p:blipFill>
          <a:blip r:embed="rId7"/>
          <a:stretch/>
        </p:blipFill>
        <p:spPr>
          <a:xfrm>
            <a:off x="401760" y="1500120"/>
            <a:ext cx="549000" cy="7495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6"/>
          <p:cNvSpPr/>
          <p:nvPr/>
        </p:nvSpPr>
        <p:spPr>
          <a:xfrm>
            <a:off x="61920" y="988920"/>
            <a:ext cx="8961480" cy="360360"/>
          </a:xfrm>
          <a:prstGeom prst="rect">
            <a:avLst/>
          </a:prstGeom>
          <a:solidFill>
            <a:srgbClr val="195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42120" bIns="42120" anchor="ctr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our identifier le risque de chute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oneTexte 72"/>
          <p:cNvSpPr/>
          <p:nvPr/>
        </p:nvSpPr>
        <p:spPr>
          <a:xfrm>
            <a:off x="3178080" y="3044880"/>
            <a:ext cx="52498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hute dans l’année et/ou test positif et/ou facteurs de risque identifi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a1d062"/>
                </a:solidFill>
                <a:latin typeface="Arial"/>
              </a:rPr>
              <a:t>Modélisation: deux étapes d’évaluation </a:t>
            </a:r>
            <a:r>
              <a:rPr b="1" lang="fr-FR" sz="1400" spc="-1" strike="noStrike">
                <a:solidFill>
                  <a:srgbClr val="a1d062"/>
                </a:solidFill>
                <a:latin typeface="Arial"/>
              </a:rPr>
              <a:t>(fiche de dépistage)</a:t>
            </a:r>
            <a:endParaRPr b="1" lang="en-US" sz="1400" spc="-1" strike="noStrike">
              <a:solidFill>
                <a:srgbClr val="a1d062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44280" y="1019160"/>
            <a:ext cx="8985600" cy="557856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pied de page 4"/>
          <p:cNvSpPr/>
          <p:nvPr/>
        </p:nvSpPr>
        <p:spPr>
          <a:xfrm>
            <a:off x="7667640" y="6675480"/>
            <a:ext cx="148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8A13-B048-4695-9CE4-397F78F5D368}" type="slidenum">
              <a:rPr b="0" lang="fr-F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0"/>
          <p:cNvSpPr/>
          <p:nvPr/>
        </p:nvSpPr>
        <p:spPr>
          <a:xfrm>
            <a:off x="3497400" y="1131840"/>
            <a:ext cx="23270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61920" y="950760"/>
            <a:ext cx="8961480" cy="360360"/>
          </a:xfrm>
          <a:prstGeom prst="rect">
            <a:avLst/>
          </a:prstGeom>
          <a:solidFill>
            <a:srgbClr val="195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Interventions adaptées au ri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llipse 42"/>
          <p:cNvSpPr/>
          <p:nvPr/>
        </p:nvSpPr>
        <p:spPr>
          <a:xfrm>
            <a:off x="96840" y="1989000"/>
            <a:ext cx="4199040" cy="434988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Ellipse 74"/>
          <p:cNvSpPr/>
          <p:nvPr/>
        </p:nvSpPr>
        <p:spPr>
          <a:xfrm>
            <a:off x="1306440" y="3200400"/>
            <a:ext cx="1781280" cy="184464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s à risque de chute gr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5"/>
          <p:cNvSpPr/>
          <p:nvPr/>
        </p:nvSpPr>
        <p:spPr>
          <a:xfrm>
            <a:off x="4681440" y="2276640"/>
            <a:ext cx="4203720" cy="1522080"/>
          </a:xfrm>
          <a:prstGeom prst="rect">
            <a:avLst/>
          </a:prstGeom>
          <a:solidFill>
            <a:srgbClr val="f0d9d9"/>
          </a:solidFill>
          <a:ln w="2844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8240" bIns="48240" anchor="ctr">
            <a:noAutofit/>
          </a:bodyPr>
          <a:p>
            <a:pPr marL="177840" indent="-177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gramme Universel contre les Chutes (PU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nsibilisation au PU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se en charge cli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6"/>
          <p:cNvSpPr/>
          <p:nvPr/>
        </p:nvSpPr>
        <p:spPr>
          <a:xfrm>
            <a:off x="5502240" y="4506840"/>
            <a:ext cx="3390840" cy="1586160"/>
          </a:xfrm>
          <a:prstGeom prst="rect">
            <a:avLst/>
          </a:prstGeom>
          <a:solidFill>
            <a:srgbClr val="d28e8c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8240" bIns="4824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ctions ciblées sur le risque de ch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jet de soin individualis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se en charge pluridisciplin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necteur droit 77"/>
          <p:cNvSpPr/>
          <p:nvPr/>
        </p:nvSpPr>
        <p:spPr>
          <a:xfrm>
            <a:off x="2843280" y="4122720"/>
            <a:ext cx="2658960" cy="92232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necteur droit 81"/>
          <p:cNvSpPr/>
          <p:nvPr/>
        </p:nvSpPr>
        <p:spPr>
          <a:xfrm flipV="1">
            <a:off x="2986920" y="2517840"/>
            <a:ext cx="1693800" cy="682560"/>
          </a:xfrm>
          <a:prstGeom prst="line">
            <a:avLst/>
          </a:prstGeom>
          <a:ln w="2844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a1d062"/>
                </a:solidFill>
                <a:latin typeface="Arial"/>
              </a:rPr>
              <a:t>Modélisation : deux étapes d’intervention</a:t>
            </a:r>
            <a:endParaRPr b="1" lang="en-US" sz="22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09" name="ZoneTexte 1"/>
          <p:cNvSpPr/>
          <p:nvPr/>
        </p:nvSpPr>
        <p:spPr>
          <a:xfrm>
            <a:off x="6603840" y="3927600"/>
            <a:ext cx="357480" cy="388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2T19:51:27Z</dcterms:created>
  <dc:creator>Marie-Sophie FERREIRA</dc:creator>
  <dc:description/>
  <dc:language>en-US</dc:language>
  <cp:lastModifiedBy>ROCHE, Marie-Hélène</cp:lastModifiedBy>
  <cp:lastPrinted>2015-10-28T09:52:13Z</cp:lastPrinted>
  <dcterms:modified xsi:type="dcterms:W3CDTF">2016-05-04T06:37:51Z</dcterms:modified>
  <cp:revision>445</cp:revision>
  <dc:subject/>
  <dc:title>Check-lists d’évaluation (1/2)</dc:title>
</cp:coreProperties>
</file>